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gif" ContentType="image/gif"/>
  <Override PartName="/ppt/media/image22.jpeg" ContentType="image/jpeg"/>
  <Override PartName="/ppt/media/iu.wav" ContentType="audio/x-wav"/>
  <Override PartName="/ppt/media/image13.jpeg" ContentType="image/jpeg"/>
  <Override PartName="/ppt/media/image2.png" ContentType="image/png"/>
  <Override PartName="/ppt/media/image4.jpeg" ContentType="image/jpeg"/>
  <Override PartName="/ppt/media/suction.wav" ContentType="audio/x-wav"/>
  <Override PartName="/ppt/media/image9.gif" ContentType="image/gif"/>
  <Override PartName="/ppt/media/image7.jpeg" ContentType="image/jpeg"/>
  <Override PartName="/ppt/media/image8.jpeg" ContentType="image/jpeg"/>
  <Override PartName="/ppt/media/image6.jpeg" ContentType="image/jpeg"/>
  <Override PartName="/ppt/media/type.wav" ContentType="audio/x-wav"/>
  <Override PartName="/ppt/media/image14.gif" ContentType="image/gif"/>
  <Override PartName="/ppt/media/image10.gif" ContentType="image/gif"/>
  <Override PartName="/ppt/media/image26.jpeg" ContentType="image/jpeg"/>
  <Override PartName="/ppt/media/explode.wav" ContentType="audio/x-wav"/>
  <Override PartName="/ppt/media/image15.gif" ContentType="image/gif"/>
  <Override PartName="/ppt/media/image5.jpeg" ContentType="image/jpeg"/>
  <Override PartName="/ppt/media/image27.png" ContentType="image/png"/>
  <Override PartName="/ppt/media/image3.jpeg" ContentType="image/jpeg"/>
  <Override PartName="/ppt/media/image12.gif" ContentType="image/gif"/>
  <Override PartName="/ppt/media/image1.png" ContentType="image/png"/>
  <Override PartName="/ppt/media/ou2.wav" ContentType="audio/x-wav"/>
  <Override PartName="/ppt/media/image20.jpeg" ContentType="image/jpeg"/>
  <Override PartName="/ppt/media/image24.png" ContentType="image/png"/>
  <Override PartName="/ppt/media/image11.jpeg" ContentType="image/jpeg"/>
  <Override PartName="/ppt/media/image18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chimes.wav" ContentType="audio/x-wav"/>
  <Override PartName="/ppt/media/image25.png" ContentType="image/png"/>
  <Override PartName="/ppt/media/image1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5.xml" ContentType="application/vnd.openxmlformats-officedocument.presentationml.comments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6-08-26T23:26:42.088000000" idx="2">
    <p:pos x="4272" y="738"/>
    <p:text/>
  </p:cm>
</p:cmLst>
</file>

<file path=ppt/comments/comment5.xml><?xml version="1.0" encoding="utf-8"?>
<p:cmLst xmlns:p="http://schemas.openxmlformats.org/presentationml/2006/main">
  <p:cm authorId="0" dt="2016-08-26T23:26:35.985000000" idx="1">
    <p:pos x="5397" y="25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5E6-665E-4FFA-AB9C-3F3A01B3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3AF-BEE7-46CA-8228-E71DEE32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B1B80-0BEE-4A73-BE91-90179C94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C54DC-BDE5-4449-8007-A69D4D0E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B4441-A271-41C8-A0DC-EEB0B0DE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4FC86-9328-4657-98EE-E7BBC83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E7607-4527-4249-B29C-BBAE91DE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59092-9DF4-403A-8FD9-562297C4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D6A87-6991-4008-89DD-0DBFE8FE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2AB13-55CC-4B43-B9A2-3E41CD05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E5D50-5FBB-452F-97B7-912F5B2A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0F63F-F1D3-4752-90AB-4A39EFB0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DD1-D2A1-4411-947D-7F606CF1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2383E-369D-4FD3-B0D2-39B95A88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E9C36-81A7-486B-A6AD-D54E2338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9ABBD-CA8B-4387-94A8-D85F501A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B758F-B1CB-480A-BD2F-92937F62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0CADF-49DF-4396-B0BC-D00BAF2E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AB047-DA0A-4A9C-A538-BCFE327E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BB939-F1DE-4761-89AF-84BA60D4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A9CC9-17DA-4F32-ADC1-4E442F3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F8E84-0E25-422C-8269-3E4F4A08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FC6E8-3FBA-4D01-BCAF-0CFE89AB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D41-BFAF-467B-910C-7200CB5E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0D87C-D3B2-4127-BAD1-F4A44DD7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05D24-D829-4A2E-8982-9AC61E67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EE522-0795-4AFB-9331-42102287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9147B-02D0-407A-A6C8-56FB7F18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D3C92-807F-4827-B2AA-7C6C77B7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A899F-9DC6-4955-892A-1BB02CD1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144BB-7120-491E-858D-55D701A5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3D4D4-C885-46B1-B1F8-579B481E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A09DD-8F72-4E1A-92DD-4A051A98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A3498-D9F7-49D3-98D8-1E30C502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E953-EC41-4782-B95D-E9819E08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E43B8-067B-48A5-99A5-C539A060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09C41-537B-4803-948D-F4B17CA3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97F28-B970-40D8-9A81-6A8876D0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7DD6E-1BB1-42CD-95CF-775B7324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2742D-A36E-4584-880B-E9E9289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9C84A-1355-4EBB-82B8-37CD2AA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E8BB8-1DDE-4812-B05C-61FDB12F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ABA59-6DA5-4E64-9D7B-4FE1B823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F09C3-749C-4784-9B2D-22267DAC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9CB79-45EA-45E3-863E-27433E21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08B9-C956-47E3-9BC2-F50C2255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15956-2456-40DB-AFFD-7DE4A173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D447E-5BEC-4C5D-B9CA-A65D31E9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F6B24-ECB4-4129-9084-D40A9B6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2E092-B48F-4FC5-AB2B-8D55B973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B8698-507C-4E7B-BCC3-48067F30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17F4-3E6A-437E-B8F7-F156F749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75C8-9875-4B22-AEEA-8A202D11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BAAE-1085-400E-B8C3-E1198584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8AC9-FF45-4322-A0B7-E992B761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57C2-0F81-40DB-A874-0840D9B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039-6DFD-4926-917C-6723DC5C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C5C1-6C22-4262-9D55-C668B2E7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924A-AB3C-48DB-9C7F-954589AC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2178-CCE2-4FB7-8242-1FBAAE9E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2A9E-96B4-4586-9CC8-CC175DC5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4993-AB8E-4180-BA9C-41805833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9703D-6BE4-4413-824D-28F86B5F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BE1A-9897-497D-BE6E-4939E8F6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1983-0DF0-47E8-BAC9-693C2ED1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DD08-EDEB-4B91-961B-7D7921F8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17FA-3CD7-4F02-9F73-828BAF1A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66F-80F9-43C6-8028-EF4D866D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F289-38F1-481B-916A-386E05EE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F673-F971-4E84-A627-774208A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308F-DF17-460C-8824-43AE108C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6DA7-D01D-44A3-8174-4B7B61BA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98AE-9EEC-4373-8E20-5E9CBC63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C16C-82B4-4A57-8A8B-6E70CA8B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B6CC-394C-47A3-9193-00F0C5D8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EEBF-C2CE-40A9-9892-11F0E39C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E80B-C9CE-4A8B-918D-CA91013A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D77D-35E1-4D6B-8644-08E27BA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DCF-EFB8-4CE6-9878-4EA77441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C410-48C6-428D-B5F2-06FEB6F8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04CA-0C40-4976-83AA-54CFC4DE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F474F-FD64-451F-9F59-5D721F83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61C7B-4B8A-465A-986D-96E008D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AFC5-0BDA-4B82-8378-CAAC0DE2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2770-0320-445B-9501-E427E033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506F-6B08-492B-B0D6-0389F08B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CB8DF-2457-4526-B885-1D543B2F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7875E-498D-410E-83CE-09ED48AD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503A-7987-4397-9257-3792A27D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A79-F2D7-4083-9E1B-98D8069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6914D-E148-46A0-AF3A-69ABA81A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B3D8A-A877-4C49-965E-F7113A35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B8A4-24DF-443B-AEF8-18B450A2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7557B-2D1C-4E1B-9161-1624AC1D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A8EE-7289-4985-962E-EB217FFC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3E53-850F-4CF5-BA8B-4961D17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33E4D-8F50-40AD-A8ED-7C86EF20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DDB6C-03A6-4513-B2CE-66742314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0F8A-53CF-4303-B817-3FBC14B8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0D6B2-4E35-4837-A6AF-A891C9E9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602-4441-4A1C-8B78-B13D0134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0EA1-19EA-4233-A3B3-EDDEFC3A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6D8F2-CFCB-4F3A-B635-5FCCE287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A8CE9-6BC6-4E30-B4F1-5593806A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23F85-B6CC-43C2-8591-CCB37463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C5C1B-AD0F-4932-B8A4-3077EDAD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88AC-41E2-4D2D-AF7F-D3D420CB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63987-DE73-4ED6-9905-7B6D071D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8666C-1C7D-4046-ACF0-9B16A77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512AA-3420-4548-A583-6381CED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4165E-9B8B-4426-935E-3FE32E0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0F5-1CC7-4C17-8BFD-5BBFD5A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D55F3-B93B-44CE-BDF8-A4734074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87513-B6DF-4016-A2E7-3470B388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08918-0EEF-41F8-8AC4-1851F749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BD2DA-8AB1-4097-8338-04955E02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9CFDC-B11A-42CF-BBB5-E1E27ECB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B5B54-881B-4A3A-81CD-243EA138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C9ED-8879-4DC9-9B4F-9A86D847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74190-2BE5-4E5C-8E73-C586AF94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6606E-AA64-472E-AD1C-988D6C27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B8A2E-1023-4434-9046-951F7CB3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106-E7E4-46CA-B78D-4CD7DCB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872CC-24A3-448B-AAD5-2F5CB5B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4FD71-54F1-43BF-876E-6C39FD8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5C2DE-A0DC-4680-A1D5-2646177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DC19-E5DA-4460-BD00-68604D5B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8B22-6753-4575-926D-BDF773D2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16055-4793-4DD6-B5DF-20FC4D6F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BEE69-A0E9-4FE9-AA49-4BEF2026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879CC-22A7-4E16-978D-FEE2AEF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F296E-B57C-41AB-A2B4-5FE79453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65FFE-040E-440F-85DD-FFF66FD2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BBA-FF57-4DA7-BF06-318D34F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1CA35-C0C9-45B4-B2D0-D3F5C8F5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F322B-C048-4480-BFEA-655C1208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0B4AC-EDF3-4C76-8AE8-4EE7D58F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F2650-5A9B-400F-9331-0971C58D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10B06-1A41-4680-9BA8-8485B60F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9CE83-9EE7-4205-A1FF-FFA84E42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C6F0D-E6D0-46C1-B1F8-203EC798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32377-F127-43EE-BF72-B101F53C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7229D-AB4C-4556-9511-ADB3E620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4DF9D-0D5E-400E-9C31-99E14F45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C066-0E2B-4AFF-965A-1CE4F58BC04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1910-FCC1-47B0-8AF8-E4B2BD8FFF8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3197-7539-4CEC-B2FD-9C692ED6084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C4BA-9907-4F3E-AE60-46143C13AFC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B5FA-7DEC-47B9-9071-E5810A9498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D0A-4A8C-447F-A412-B72C1345F34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904B-54D4-4E65-B519-C6A3EEA3A4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55A0-33C9-4E79-B0EC-D69CE3A412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C9CA-6708-4733-A19D-961C87394A9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5D49-DAF4-40E9-B896-DF43261FB47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CC6B-EC9C-4D51-919F-BE1F18118D4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D0C3-56C9-4A9A-B8BF-A69EE2D0875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hyperlink" Target="file:///tmp/home/.config/libreoffice/4/user/gallery/jy1.wav" TargetMode="External"/><Relationship Id="rId4" Type="http://schemas.openxmlformats.org/officeDocument/2006/relationships/image" Target="../media/image16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85.xml"/><Relationship Id="rId7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o1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XPY15_06.WAV" TargetMode="External"/><Relationship Id="rId3" Type="http://schemas.openxmlformats.org/officeDocument/2006/relationships/image" Target="../media/image9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u2.wav" TargetMode="External"/><Relationship Id="rId2" Type="http://schemas.openxmlformats.org/officeDocument/2006/relationships/image" Target="../media/image10.gif"/><Relationship Id="rId3" Type="http://schemas.openxmlformats.org/officeDocument/2006/relationships/audio" Target="../media/ou2.wav"/><Relationship Id="rId4" Type="http://schemas.openxmlformats.org/officeDocument/2006/relationships/audio" Target="../media/ou2.wav"/><Relationship Id="rId5" Type="http://schemas.openxmlformats.org/officeDocument/2006/relationships/slideLayout" Target="../slideLayouts/slideLayout85.xml"/><Relationship Id="rId6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jy2.wav" TargetMode="External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hyperlink" Target="file:///tmp/home/.config/libreoffice/4/user/gallery/jy1.wav" TargetMode="External"/><Relationship Id="rId7" Type="http://schemas.openxmlformats.org/officeDocument/2006/relationships/image" Target="../media/image16.gif"/><Relationship Id="rId8" Type="http://schemas.openxmlformats.org/officeDocument/2006/relationships/hyperlink" Target="file:///tmp/home/.config/libreoffice/4/user/gallery/XPY15_08.WAV" TargetMode="External"/><Relationship Id="rId9" Type="http://schemas.openxmlformats.org/officeDocument/2006/relationships/image" Target="../media/image17.gif"/><Relationship Id="rId10" Type="http://schemas.openxmlformats.org/officeDocument/2006/relationships/hyperlink" Target="file:///tmp/home/.config/libreoffice/4/user/gallery/jy1.wav" TargetMode="External"/><Relationship Id="rId11" Type="http://schemas.openxmlformats.org/officeDocument/2006/relationships/image" Target="../media/image18.gif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iu.wav"/><Relationship Id="rId3" Type="http://schemas.openxmlformats.org/officeDocument/2006/relationships/audio" Target="../media/iu.wav"/><Relationship Id="rId4" Type="http://schemas.openxmlformats.org/officeDocument/2006/relationships/audio" Target="../media/iu.wav"/><Relationship Id="rId5" Type="http://schemas.openxmlformats.org/officeDocument/2006/relationships/audio" Target="../media/iu.wav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1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2" name="矩形 4"/>
          <p:cNvSpPr/>
          <p:nvPr/>
        </p:nvSpPr>
        <p:spPr>
          <a:xfrm>
            <a:off x="2449440" y="638280"/>
            <a:ext cx="524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ao  ou  iu 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im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920" y="981000"/>
            <a:ext cx="8958240" cy="5267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-36360" y="11253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33cc33"/>
                </a:solidFill>
                <a:uFillTx/>
                <a:latin typeface="Calibri"/>
                <a:ea typeface="黑体"/>
              </a:rPr>
              <a:t>  </a:t>
            </a:r>
            <a:r>
              <a:rPr b="0" i="1" lang="zh-CN" sz="6600" spc="-1" strike="noStrike" u="sng">
                <a:solidFill>
                  <a:srgbClr val="33cc33"/>
                </a:solidFill>
                <a:uFillTx/>
                <a:latin typeface="Calibri"/>
                <a:ea typeface="黑体"/>
              </a:rPr>
              <a:t>大声读一读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908000" y="23493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g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ǒ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u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叼 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r</a:t>
            </a: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ò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u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2050920" y="47973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ni</a:t>
            </a: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ú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踢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EU-F4"/>
              </a:rPr>
              <a:t> 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qiú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1964880" y="3645000"/>
            <a:ext cx="409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m</a:t>
            </a: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ā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o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长 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p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ǎ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o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5" name="Picture 7" descr="新图"/>
          <p:cNvPicPr/>
          <p:nvPr/>
        </p:nvPicPr>
        <p:blipFill>
          <a:blip r:embed="rId2"/>
          <a:stretch/>
        </p:blipFill>
        <p:spPr>
          <a:xfrm>
            <a:off x="6084720" y="4149720"/>
            <a:ext cx="2057400" cy="1868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1227[1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3213000"/>
            <a:ext cx="1279440" cy="1314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9" descr="dog2"/>
          <p:cNvPicPr/>
          <p:nvPr/>
        </p:nvPicPr>
        <p:blipFill>
          <a:blip r:embed="rId5"/>
          <a:stretch/>
        </p:blipFill>
        <p:spPr>
          <a:xfrm>
            <a:off x="324000" y="2205000"/>
            <a:ext cx="1512720" cy="1017720"/>
          </a:xfrm>
          <a:prstGeom prst="rect">
            <a:avLst/>
          </a:prstGeom>
          <a:ln w="0">
            <a:noFill/>
          </a:ln>
        </p:spPr>
      </p:pic>
      <p:sp>
        <p:nvSpPr>
          <p:cNvPr id="5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0" y="5257440"/>
            <a:ext cx="9144000" cy="360"/>
            <a:chOff x="0" y="5257440"/>
            <a:chExt cx="9144000" cy="360"/>
          </a:xfrm>
        </p:grpSpPr>
        <p:sp>
          <p:nvSpPr>
            <p:cNvPr id="591" name="Line 2"/>
            <p:cNvSpPr/>
            <p:nvPr/>
          </p:nvSpPr>
          <p:spPr>
            <a:xfrm>
              <a:off x="0" y="525780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 rot="10800000">
              <a:off x="0" y="5257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0" y="4038120"/>
            <a:ext cx="9144000" cy="360"/>
            <a:chOff x="0" y="4038120"/>
            <a:chExt cx="9144000" cy="360"/>
          </a:xfrm>
        </p:grpSpPr>
        <p:sp>
          <p:nvSpPr>
            <p:cNvPr id="594" name="Line 3"/>
            <p:cNvSpPr/>
            <p:nvPr/>
          </p:nvSpPr>
          <p:spPr>
            <a:xfrm>
              <a:off x="0" y="403848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 rot="10800000">
              <a:off x="0" y="40377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0" y="1267920"/>
            <a:ext cx="9144000" cy="360"/>
            <a:chOff x="0" y="1267920"/>
            <a:chExt cx="9144000" cy="360"/>
          </a:xfrm>
        </p:grpSpPr>
        <p:sp>
          <p:nvSpPr>
            <p:cNvPr id="597" name="Line 4"/>
            <p:cNvSpPr/>
            <p:nvPr/>
          </p:nvSpPr>
          <p:spPr>
            <a:xfrm>
              <a:off x="0" y="126828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 rot="10800000">
              <a:off x="0" y="12675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0" y="2742840"/>
            <a:ext cx="9144000" cy="360"/>
            <a:chOff x="0" y="2742840"/>
            <a:chExt cx="9144000" cy="360"/>
          </a:xfrm>
        </p:grpSpPr>
        <p:sp>
          <p:nvSpPr>
            <p:cNvPr id="600" name="Line 5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 rot="10800000">
              <a:off x="0" y="2742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0" y="1515960"/>
            <a:ext cx="2895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9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ɑ</a:t>
            </a:r>
            <a:r>
              <a:rPr b="0" i="1" lang="zh-CN" sz="190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o</a:t>
            </a:r>
            <a:endParaRPr b="0" i="1" lang="en-US" sz="19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3429000" y="1447920"/>
            <a:ext cx="26668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90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ou</a:t>
            </a:r>
            <a:endParaRPr b="0" i="1" lang="en-US" sz="19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6675480" y="1469880"/>
            <a:ext cx="21999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90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iu</a:t>
            </a:r>
            <a:endParaRPr b="0" i="1" lang="en-US" sz="19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圆角矩形 4"/>
          <p:cNvSpPr/>
          <p:nvPr/>
        </p:nvSpPr>
        <p:spPr>
          <a:xfrm>
            <a:off x="2050920" y="4797360"/>
            <a:ext cx="424188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1690560" y="2349360"/>
            <a:ext cx="5400720" cy="2082960"/>
          </a:xfrm>
          <a:prstGeom prst="rect">
            <a:avLst/>
          </a:prstGeom>
          <a:ln w="0">
            <a:noFill/>
          </a:ln>
        </p:spPr>
      </p:pic>
      <p:pic>
        <p:nvPicPr>
          <p:cNvPr id="609" name="矩形 1" descr=""/>
          <p:cNvPicPr/>
          <p:nvPr/>
        </p:nvPicPr>
        <p:blipFill>
          <a:blip r:embed="rId2"/>
          <a:stretch/>
        </p:blipFill>
        <p:spPr>
          <a:xfrm>
            <a:off x="3255840" y="1052640"/>
            <a:ext cx="2359080" cy="92232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2"/>
          <p:cNvSpPr/>
          <p:nvPr/>
        </p:nvSpPr>
        <p:spPr>
          <a:xfrm>
            <a:off x="4218840" y="4941720"/>
            <a:ext cx="10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i u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并列标在后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1" name="图片 3" descr=""/>
          <p:cNvPicPr/>
          <p:nvPr/>
        </p:nvPicPr>
        <p:blipFill>
          <a:blip r:embed="rId3"/>
          <a:stretch/>
        </p:blipFill>
        <p:spPr>
          <a:xfrm>
            <a:off x="6292800" y="4432320"/>
            <a:ext cx="1598760" cy="1633680"/>
          </a:xfrm>
          <a:prstGeom prst="rect">
            <a:avLst/>
          </a:prstGeom>
          <a:ln w="0">
            <a:noFill/>
          </a:ln>
        </p:spPr>
      </p:pic>
      <p:sp>
        <p:nvSpPr>
          <p:cNvPr id="6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图片 1" descr=""/>
          <p:cNvPicPr/>
          <p:nvPr/>
        </p:nvPicPr>
        <p:blipFill>
          <a:blip r:embed="rId1"/>
          <a:stretch/>
        </p:blipFill>
        <p:spPr>
          <a:xfrm>
            <a:off x="250920" y="685800"/>
            <a:ext cx="8881920" cy="547992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2"/>
          <p:cNvSpPr/>
          <p:nvPr/>
        </p:nvSpPr>
        <p:spPr>
          <a:xfrm>
            <a:off x="2340000" y="1125360"/>
            <a:ext cx="5186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标调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有</a:t>
            </a: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ɑ</a:t>
            </a: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在，把帽戴，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ɑ</a:t>
            </a: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不在，</a:t>
            </a: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o e</a:t>
            </a: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戴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要是</a:t>
            </a: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i u</a:t>
            </a: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在一起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谁在后面给谁戴。</a:t>
            </a: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楷体_GB2312"/>
                <a:ea typeface="楷体_GB2312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250920" y="685800"/>
            <a:ext cx="8881920" cy="5479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"/>
          <p:cNvSpPr/>
          <p:nvPr/>
        </p:nvSpPr>
        <p:spPr>
          <a:xfrm>
            <a:off x="2098800" y="1052640"/>
            <a:ext cx="51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拼一拼，连一连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Text Box 2"/>
          <p:cNvSpPr/>
          <p:nvPr/>
        </p:nvSpPr>
        <p:spPr>
          <a:xfrm>
            <a:off x="512640" y="2417760"/>
            <a:ext cx="51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宋体"/>
                <a:ea typeface="宋体"/>
              </a:rPr>
              <a:t>   </a:t>
            </a:r>
            <a:r>
              <a:rPr b="0" i="1" lang="zh-CN" sz="3600" spc="-1" strike="noStrike" u="sng">
                <a:solidFill>
                  <a:srgbClr val="33cc33"/>
                </a:solidFill>
                <a:uFillTx/>
                <a:latin typeface="宋体"/>
                <a:ea typeface="宋体"/>
              </a:rPr>
              <a:t>叫  快  尾  流  笑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539640" y="479736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33cc33"/>
                </a:solidFill>
                <a:uFillTx/>
                <a:latin typeface="宋体"/>
                <a:ea typeface="宋体"/>
              </a:rPr>
              <a:t>xiào  jiào  kuài  wěi liú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同侧圆角矩形 2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d2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98100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5508720" y="909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ff"/>
                </a:solidFill>
                <a:uFillTx/>
                <a:latin typeface="Century Gothic"/>
                <a:ea typeface="宋体"/>
              </a:rPr>
              <a:t>ā</a:t>
            </a:r>
            <a:r>
              <a:rPr b="0" i="1" lang="zh-CN" sz="72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o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Picture 4" descr="33"/>
          <p:cNvPicPr/>
          <p:nvPr/>
        </p:nvPicPr>
        <p:blipFill>
          <a:blip r:embed="rId3"/>
          <a:stretch/>
        </p:blipFill>
        <p:spPr>
          <a:xfrm>
            <a:off x="1835280" y="2349360"/>
            <a:ext cx="1981080" cy="10764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5435640" y="378936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72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ǎ</a:t>
            </a:r>
            <a:r>
              <a:rPr b="0" i="1" lang="zh-CN" sz="72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o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5219640" y="22780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entury Gothic"/>
                <a:ea typeface="宋体"/>
              </a:rPr>
              <a:t>  </a:t>
            </a: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á</a:t>
            </a:r>
            <a:r>
              <a:rPr b="0" i="1" lang="zh-CN" sz="72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o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5076720" y="51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   </a:t>
            </a: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à</a:t>
            </a:r>
            <a:r>
              <a:rPr b="0" i="1" lang="zh-CN" sz="72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o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9" name="Picture 8" descr="ao1"/>
          <p:cNvPicPr/>
          <p:nvPr/>
        </p:nvPicPr>
        <p:blipFill>
          <a:blip r:embed="rId4"/>
          <a:stretch/>
        </p:blipFill>
        <p:spPr>
          <a:xfrm>
            <a:off x="2050920" y="3502080"/>
            <a:ext cx="2159280" cy="1981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wh"/>
          <p:cNvPicPr/>
          <p:nvPr/>
        </p:nvPicPr>
        <p:blipFill>
          <a:blip r:embed="rId5"/>
          <a:stretch/>
        </p:blipFill>
        <p:spPr>
          <a:xfrm>
            <a:off x="2195640" y="5373720"/>
            <a:ext cx="1803240" cy="863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8"/>
          <p:cNvPicPr/>
          <p:nvPr/>
        </p:nvPicPr>
        <p:blipFill>
          <a:blip r:embed="rId1"/>
          <a:stretch/>
        </p:blipFill>
        <p:spPr>
          <a:xfrm>
            <a:off x="130320" y="1038240"/>
            <a:ext cx="8999280" cy="53467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4915080" y="289548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d9d8ec"/>
                </a:solidFill>
                <a:uFillTx/>
                <a:latin typeface="宋体"/>
                <a:ea typeface="宋体"/>
              </a:rPr>
              <a:t>tóu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2556000" y="4221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entury Gothic"/>
                <a:ea typeface="宋体"/>
              </a:rPr>
              <a:t>老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2340000" y="314172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lǎo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6875640" y="828720"/>
            <a:ext cx="1393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jiǔ</a:t>
            </a:r>
            <a:endParaRPr b="0" i="1" lang="en-US" sz="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6997680" y="1739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entury Gothic"/>
                <a:ea typeface="宋体"/>
              </a:rPr>
              <a:t>九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5245200" y="40258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entury Gothic"/>
                <a:ea typeface="宋体"/>
              </a:rPr>
              <a:t>头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7"/>
          <p:cNvPicPr/>
          <p:nvPr/>
        </p:nvPicPr>
        <p:blipFill>
          <a:blip r:embed="rId1"/>
          <a:stretch/>
        </p:blipFill>
        <p:spPr>
          <a:xfrm>
            <a:off x="108000" y="981000"/>
            <a:ext cx="8964720" cy="533736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3"/>
          <p:cNvSpPr/>
          <p:nvPr/>
        </p:nvSpPr>
        <p:spPr>
          <a:xfrm>
            <a:off x="3276720" y="2565360"/>
            <a:ext cx="137160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ff0000"/>
                </a:solidFill>
                <a:uFillTx/>
                <a:latin typeface="Arial"/>
                <a:ea typeface="华文细黑"/>
              </a:rPr>
              <a:t>o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419720" y="25146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u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5" name="Picture 5" descr="starfi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40720" y="5877000"/>
            <a:ext cx="1131840" cy="52704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6"/>
          <p:cNvSpPr/>
          <p:nvPr/>
        </p:nvSpPr>
        <p:spPr>
          <a:xfrm>
            <a:off x="3879720" y="4718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海鸥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6656400" y="1333440"/>
            <a:ext cx="190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3300"/>
                </a:solidFill>
                <a:uFillTx/>
                <a:latin typeface="Calibri"/>
                <a:ea typeface="PMingLiU"/>
              </a:rPr>
              <a:t>ó</a:t>
            </a:r>
            <a:r>
              <a:rPr b="0" i="1" lang="zh-CN" sz="120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u</a:t>
            </a: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宋体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3608280" y="4000680"/>
            <a:ext cx="19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ǒ</a:t>
            </a:r>
            <a:r>
              <a:rPr b="0" i="1" lang="zh-CN" sz="120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u</a:t>
            </a: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732720" y="4076640"/>
            <a:ext cx="2133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ò</a:t>
            </a:r>
            <a:r>
              <a:rPr b="0" i="1" lang="zh-CN" sz="120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u</a:t>
            </a: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宋体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3557520" y="1333440"/>
            <a:ext cx="213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ō</a:t>
            </a:r>
            <a:r>
              <a:rPr b="0" i="1" lang="zh-CN" sz="120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u</a:t>
            </a: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838080" y="914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entury Gothic"/>
                <a:ea typeface="宋体"/>
              </a:rPr>
              <a:t> 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4" name="Picture 7" descr="1197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141720"/>
            <a:ext cx="1447920" cy="13698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965160" y="1041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  </a:t>
            </a:r>
            <a:r>
              <a:rPr b="0" i="1" lang="zh-CN" sz="5400" spc="-1" strike="noStrike" u="sng">
                <a:solidFill>
                  <a:srgbClr val="cc00cc"/>
                </a:solidFill>
                <a:uFillTx/>
                <a:latin typeface="Century Gothic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u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u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k拷贝"/>
          <p:cNvPicPr/>
          <p:nvPr/>
        </p:nvPicPr>
        <p:blipFill>
          <a:blip r:embed="rId1"/>
          <a:stretch/>
        </p:blipFill>
        <p:spPr>
          <a:xfrm>
            <a:off x="108000" y="981000"/>
            <a:ext cx="8962920" cy="53006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3"/>
          <p:cNvSpPr/>
          <p:nvPr/>
        </p:nvSpPr>
        <p:spPr>
          <a:xfrm>
            <a:off x="555120" y="3581280"/>
            <a:ext cx="178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rò</a:t>
            </a: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u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456480" y="457200"/>
            <a:ext cx="145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ǒu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1" name="Picture 5" descr="dog2-1"/>
          <p:cNvPicPr/>
          <p:nvPr/>
        </p:nvPicPr>
        <p:blipFill>
          <a:blip r:embed="rId2"/>
          <a:stretch/>
        </p:blipFill>
        <p:spPr>
          <a:xfrm>
            <a:off x="6019920" y="3124080"/>
            <a:ext cx="1904760" cy="289584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6"/>
          <p:cNvSpPr/>
          <p:nvPr/>
        </p:nvSpPr>
        <p:spPr>
          <a:xfrm>
            <a:off x="5992560" y="990720"/>
            <a:ext cx="187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ff3300"/>
                </a:solidFill>
                <a:uFillTx/>
                <a:latin typeface="Century Gothic"/>
                <a:ea typeface="宋体"/>
              </a:rPr>
              <a:t>g</a:t>
            </a: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ǒu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同侧圆角矩形 5"/>
          <p:cNvSpPr/>
          <p:nvPr/>
        </p:nvSpPr>
        <p:spPr>
          <a:xfrm>
            <a:off x="1830240" y="909720"/>
            <a:ext cx="20019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21"/>
          <p:cNvPicPr/>
          <p:nvPr/>
        </p:nvPicPr>
        <p:blipFill>
          <a:blip r:embed="rId1"/>
          <a:stretch/>
        </p:blipFill>
        <p:spPr>
          <a:xfrm>
            <a:off x="108000" y="982800"/>
            <a:ext cx="8929800" cy="5310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haitun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9440" y="3860640"/>
            <a:ext cx="2754360" cy="2727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haitun5"/>
          <p:cNvPicPr/>
          <p:nvPr/>
        </p:nvPicPr>
        <p:blipFill>
          <a:blip r:embed="rId4"/>
          <a:stretch/>
        </p:blipFill>
        <p:spPr>
          <a:xfrm>
            <a:off x="4429080" y="4870440"/>
            <a:ext cx="2286000" cy="1262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haitun5"/>
          <p:cNvPicPr/>
          <p:nvPr/>
        </p:nvPicPr>
        <p:blipFill>
          <a:blip r:embed="rId5"/>
          <a:stretch/>
        </p:blipFill>
        <p:spPr>
          <a:xfrm>
            <a:off x="612720" y="537372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1227[1]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81080" y="3505320"/>
            <a:ext cx="1279800" cy="1314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h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84360" y="1341360"/>
            <a:ext cx="1406520" cy="74304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8"/>
          <p:cNvSpPr/>
          <p:nvPr/>
        </p:nvSpPr>
        <p:spPr>
          <a:xfrm>
            <a:off x="6500880" y="35712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iu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001160" y="14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加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3" name="Picture 10" descr="dog2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276720" y="3657600"/>
            <a:ext cx="822240" cy="1143000"/>
          </a:xfrm>
          <a:prstGeom prst="rect">
            <a:avLst/>
          </a:prstGeom>
          <a:ln w="0">
            <a:noFill/>
          </a:ln>
        </p:spPr>
      </p:pic>
      <p:sp>
        <p:nvSpPr>
          <p:cNvPr id="5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aellhi"/>
          <p:cNvPicPr/>
          <p:nvPr/>
        </p:nvPicPr>
        <p:blipFill>
          <a:blip r:embed="rId1"/>
          <a:stretch/>
        </p:blipFill>
        <p:spPr>
          <a:xfrm>
            <a:off x="109440" y="981000"/>
            <a:ext cx="9036000" cy="526572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3"/>
          <p:cNvSpPr/>
          <p:nvPr/>
        </p:nvSpPr>
        <p:spPr>
          <a:xfrm>
            <a:off x="6156360" y="33577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iù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3648240" y="134136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iu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128600" y="33577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iū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2855880" y="33577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iú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56240" y="34290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iǔ</a:t>
            </a: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bv"/>
          <p:cNvPicPr/>
          <p:nvPr/>
        </p:nvPicPr>
        <p:blipFill>
          <a:blip r:embed="rId1"/>
          <a:stretch/>
        </p:blipFill>
        <p:spPr>
          <a:xfrm>
            <a:off x="108000" y="981000"/>
            <a:ext cx="8966160" cy="53215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6362640" y="525600"/>
            <a:ext cx="2819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niú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6" name="Picture 4" descr="新图"/>
          <p:cNvPicPr/>
          <p:nvPr/>
        </p:nvPicPr>
        <p:blipFill>
          <a:blip r:embed="rId2"/>
          <a:stretch/>
        </p:blipFill>
        <p:spPr>
          <a:xfrm>
            <a:off x="1276200" y="3263760"/>
            <a:ext cx="2362320" cy="214488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438120" y="52560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0" spc="-1" strike="noStrike" u="sng">
                <a:solidFill>
                  <a:srgbClr val="d9d8ec"/>
                </a:solidFill>
                <a:uFillTx/>
                <a:latin typeface="Century Gothic"/>
                <a:ea typeface="宋体"/>
              </a:rPr>
              <a:t>q</a:t>
            </a:r>
            <a:r>
              <a:rPr b="0" i="1" lang="zh-CN" sz="150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iú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同侧圆角矩形 1"/>
          <p:cNvSpPr/>
          <p:nvPr/>
        </p:nvSpPr>
        <p:spPr>
          <a:xfrm>
            <a:off x="3265560" y="909720"/>
            <a:ext cx="200160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1:43:40Z</dcterms:created>
  <dc:creator/>
  <dc:description/>
  <dc:language>en-US</dc:language>
  <cp:lastModifiedBy>万润仪器贸易公司</cp:lastModifiedBy>
  <dcterms:modified xsi:type="dcterms:W3CDTF">2020-08-24T01:43:50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